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689-880A-423B-AC1A-F567B1CB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C7CC-503C-4132-A5AC-2F8CFFC3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890-8BF5-4380-81DB-14F070FB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EFCE-617E-4B19-9D8F-A662880A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34A3-7E0F-40B4-95A9-AD7761DC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50A-4D1A-4E72-9EDD-E8A1A982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85E-2666-4CD1-BC39-07C9D76A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1FE-D91A-4A90-9F97-5FFA2506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A5C-0A3D-40D6-B49E-0CB19403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CEF-ED2D-4F2D-96BD-6B6F3373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3EA-9404-450D-BE20-E29C3BD7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8358-C7B7-4C87-BF3C-17ECBB9E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73AB-B55A-4AC4-937F-EFD00DC11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2209680"/>
            <a:ext cx="9144000" cy="4648320"/>
            <a:chOff x="0" y="2209680"/>
            <a:chExt cx="9144000" cy="464832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0" y="2209680"/>
              <a:ext cx="5334120" cy="46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5334120" y="3124080"/>
              <a:ext cx="3809880" cy="254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l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Grade Physical Scienc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3520" y="5105520"/>
            <a:ext cx="4800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s. C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13:38:02Z</dcterms:created>
  <dc:creator>neiu</dc:creator>
  <dc:description/>
  <dc:language>en-US</dc:language>
  <cp:lastModifiedBy>neiu</cp:lastModifiedBy>
  <dcterms:modified xsi:type="dcterms:W3CDTF">2008-07-28T14:34:25Z</dcterms:modified>
  <cp:revision>3</cp:revision>
  <dc:subject/>
  <dc:title>Slide 1</dc:title>
</cp:coreProperties>
</file>